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5361-E0CC-4D29-8FD6-FFE30D7238C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AF2-0DF4-4309-96EB-77A2B35043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19T17:29:03Z</dcterms:modified>
  <cp:revision>222</cp:revision>
  <dc:subject/>
  <dc:title>Slide 1</dc:title>
</cp:coreProperties>
</file>